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10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9.wmf" ContentType="image/x-wmf"/>
  <Override PartName="/ppt/media/image22.wmf" ContentType="image/x-wmf"/>
  <Override PartName="/ppt/media/image20.gif" ContentType="image/gi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5.jpeg" ContentType="image/jpeg"/>
  <Override PartName="/ppt/media/image1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FC4-5DB7-453A-A207-B18103B9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75B-6396-40F8-B9DD-0B05C811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772-B5F4-4E60-8800-FB935EBA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0102-34C9-41D8-ADDE-F312AE08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689-42C4-44D5-9E82-31FF2F49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9A1-65A9-4218-A846-8A95C8E9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917-80C8-471B-85AD-ED7FCF6A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CED-6247-4676-AECB-5DEB313A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BFE-6C59-4093-902C-AF6E01E2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297-E526-4D6C-AC0E-101AC192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0F4-CE9A-4270-A105-F7E45F54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94E-3F98-40DE-8BD7-68A9CF7C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3FA8-AE57-4D22-9ECC-3A5BC29A4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Mr. Spe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2870280" cy="200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657600" cy="218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1747800" cy="180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819520" y="4267080"/>
            <a:ext cx="1787400" cy="1868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486400" y="4114800"/>
            <a:ext cx="3276720" cy="221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010280" y="1143000"/>
            <a:ext cx="16495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Mr. Spey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53080" y="7621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2286000" cy="2776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286000" y="563868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324480" y="4876920"/>
            <a:ext cx="1401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r. Spey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7920" y="5486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training to be a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1753920" cy="1373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809720" cy="1592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286000" y="3352680"/>
            <a:ext cx="1819440" cy="1716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010280" y="2819520"/>
            <a:ext cx="134640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Mr. Spey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95280" y="57913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class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2531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il W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327636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giv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4671720" cy="4687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23860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here at Sedal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2362320" cy="2183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666880" y="4495680"/>
            <a:ext cx="2590920" cy="1546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34120" y="2362320"/>
            <a:ext cx="28191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vie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questions about Mr. Spey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Mr. Spey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Mr. Spey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Mr. Spey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 at Seda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last essential question is ____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 need your hel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help me by trying hard and doing your best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help me by sitting straight and paying att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help me by respecting yourself and respecting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me also means helping your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2:17:56Z</dcterms:created>
  <dc:creator>Joel Speyer</dc:creator>
  <dc:description/>
  <dc:language>en-US</dc:language>
  <cp:lastModifiedBy>Joel Speyer</cp:lastModifiedBy>
  <dcterms:modified xsi:type="dcterms:W3CDTF">2010-10-18T23:43:43Z</dcterms:modified>
  <cp:revision>10</cp:revision>
  <dc:subject/>
  <dc:title>All About Mr. Speyer</dc:title>
</cp:coreProperties>
</file>